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73B46-92E3-4A0D-B369-732FBDCDB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CD271-36F4-47D6-9A79-C1C0DA249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693A79-1524-41E4-95AC-1F36A0314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54F2B0-E3E3-4D9C-93A8-08C40B185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189CB-76FC-4619-92CA-EB35B64C4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2BA78-06FA-4D95-81AB-197D38F7F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9C5F2-DC2D-45FE-9667-8B40F8DF6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22355-6253-4AC1-9CB3-0361A2D02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96B01-E337-4740-9C65-FE5035D88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CCA31-6F86-4441-8A9D-CA0A98F44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36632-7413-4B13-9F66-4A1C7B32B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B30A3-078F-48F3-A02D-A40A843B32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0EA27-FB3B-4AD2-B648-8904A88C079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EGE ÜNİVERSİTESİ</a:t>
            </a:r>
            <a:endParaRPr b="0" lang="en-US" sz="60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425592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07:37:05Z</dcterms:created>
  <dc:creator>Microsoft Office User</dc:creator>
  <dc:description/>
  <dc:language>en-US</dc:language>
  <cp:lastModifiedBy>Microsoft Office User</cp:lastModifiedBy>
  <dcterms:modified xsi:type="dcterms:W3CDTF">2018-08-01T13:24:51Z</dcterms:modified>
  <cp:revision>3</cp:revision>
  <dc:subject/>
  <dc:title>PowerPoint Presentation</dc:title>
</cp:coreProperties>
</file>