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280400" cy="4140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4ED9-2308-44E9-BA4A-1270BD79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A4E0-288B-4F7D-BF39-836FEA4D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73DC-A501-441F-828D-6F0AAB93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368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820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952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368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820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9059-73D5-4BB8-BA1B-C4C2E61E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4D82-7CE0-438A-B35A-956FE24D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6D63-DA60-4F1D-9A8C-D49CF771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F129-159F-4A09-A666-C3BA62F2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7A66-6B31-4303-AEFD-2366DC52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9520" y="220680"/>
            <a:ext cx="714060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8A93-B576-4917-B23A-7EF31DF5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31E1-CEB3-4DF7-B5B8-69980094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CC5C-9768-42E7-88AB-4D5778FF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817C-77AC-46DA-990A-B4E1E7C9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2920" indent="-13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890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96516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952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3836520"/>
            <a:ext cx="2793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4784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171CE4BD-522B-4897-870E-9796564B6BB0}" type="slidenum">
              <a:rPr b="0" lang="en-US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1511280" y="-801720"/>
            <a:ext cx="10234440" cy="2327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604880" y="178596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000" spc="-1" strike="noStrike">
                <a:solidFill>
                  <a:srgbClr val="1f4e79"/>
                </a:solidFill>
                <a:latin typeface="Calibri"/>
              </a:rPr>
              <a:t>Davet Met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3730680" y="604800"/>
            <a:ext cx="823680" cy="82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604880" y="2998800"/>
            <a:ext cx="50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Calibri"/>
              </a:rPr>
              <a:t>İm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8280360" cy="4138560"/>
          </a:xfrm>
          <a:prstGeom prst="rect">
            <a:avLst/>
          </a:prstGeom>
          <a:solidFill>
            <a:srgbClr val="162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92040" y="430200"/>
            <a:ext cx="50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92040" y="849240"/>
            <a:ext cx="5068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Lorem ipsum dolor sit amet, consectetur adipiscing eli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Aenean sit amet quam commodo, facilisis lectus eget, pellentesque maur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2040" y="3065400"/>
            <a:ext cx="506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Yer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Ege Üniversitesi Kampüsü, Bornova/İZMİR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Tarih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00 Haziran 2018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Saat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20.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2200320" y="1854360"/>
            <a:ext cx="608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06:11:59Z</dcterms:created>
  <dc:creator>Microsoft Office User</dc:creator>
  <dc:description/>
  <dc:language>en-US</dc:language>
  <cp:lastModifiedBy>Microsoft Office User</cp:lastModifiedBy>
  <dcterms:modified xsi:type="dcterms:W3CDTF">2018-04-02T06:36:08Z</dcterms:modified>
  <cp:revision>4</cp:revision>
  <dc:subject/>
  <dc:title>PowerPoint Presentation</dc:title>
</cp:coreProperties>
</file>